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81bd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81bd"/>
                </a:solidFill>
                <a:latin typeface="Times New Roman"/>
                <a:ea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81bd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D578-2218-47D8-9B95-911B2049137E}" type="slidenum">
              <a:rPr b="0" lang="zh-CN" sz="1200" spc="-1" strike="noStrike">
                <a:solidFill>
                  <a:srgbClr val="4f81bd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6A1C-BCD4-45DE-9C19-7CCABCF5AFF6}" type="slidenum">
              <a:rPr b="1" lang="zh-CN" sz="1200" spc="-1" strike="noStrike">
                <a:solidFill>
                  <a:srgbClr val="4f81bd"/>
                </a:solidFill>
                <a:latin typeface="Lucida Sans Unicode"/>
                <a:ea typeface="Gulim"/>
              </a:rPr>
              <a:t>&lt;number&gt;</a:t>
            </a:fld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B36F-0503-40D6-9349-8BC12D6D8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5967-F57B-401E-8FEE-7CAF46F8E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06FA-A32B-4C1D-BC2F-9C8065691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7A7B-989D-438E-A21F-780CFEB44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435F-C986-47CA-B3DE-66C54DF426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BDB0-CEBC-4BAC-81DA-78ADFDB17E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292D-E22F-4F1A-9524-AEA4C318EF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6283-46AF-4A41-8854-DF2E423EC8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F6A8-E90B-4AD1-A4C8-726A20B9EB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BEE4-B72A-4941-A4B6-C17BBE8378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4149-7709-43B6-B049-5174FC6A33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B6C2-8D72-4A0C-BE65-2B648C1BE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98FB0-353F-4BF8-9759-61C8D449D0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1937-1992-4E6A-A298-8277815DCD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FF96-B70B-4FDE-8891-349D93B4FA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4D8F-FD49-4A6F-BC37-CDE5DFBC52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33C0-2252-4BB7-AD0F-F4E1E711FE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E91-4485-47F7-AA3D-60AA7DD442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07C-90B3-4D2B-8D92-627310BB75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2B5-355A-4112-A501-816D528372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976-4C7F-4BB8-962B-6288FBE46D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B07-1C5E-4CBC-AD4C-D6E091F90A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67D4-63CC-4EC3-AE2D-8594F984B1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E73-694E-4D89-8EF4-BB2C9B7ECC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68C-EB0B-4DB3-8199-8616AF34DB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09B-9278-4731-8C32-834DFD7E4F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7D1-23A7-43B1-A85E-BF7030F409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2A8-F2D7-444B-A2D7-ED1DFFEB12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046-4DFB-4D6B-BF33-B38183DED3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891-6A62-46E0-9F58-0829DD401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6C01-3EE3-4957-8549-4FC90EDFC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DC1B-FD52-40DB-9439-090B92AF4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A387-496E-4522-97F9-A36849386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9544-DE1F-473C-8748-55AF28850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DA9C-8CAD-4A86-A4E4-285E1E808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7488-B93E-43EF-B1A8-45E0269FF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0DA4-C406-4D97-963D-57452447E86E}" type="slidenum">
              <a:rPr b="0" lang="ko-KR" sz="1200" spc="-1" strike="noStrike">
                <a:solidFill>
                  <a:srgbClr val="f8f8f8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3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4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5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6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8" name="图片 1" descr=""/>
          <p:cNvPicPr/>
          <p:nvPr/>
        </p:nvPicPr>
        <p:blipFill>
          <a:blip r:embed="rId2"/>
          <a:stretch/>
        </p:blipFill>
        <p:spPr>
          <a:xfrm>
            <a:off x="5896080" y="6408720"/>
            <a:ext cx="404640" cy="405000"/>
          </a:xfrm>
          <a:prstGeom prst="rect">
            <a:avLst/>
          </a:prstGeom>
          <a:ln w="0">
            <a:noFill/>
          </a:ln>
        </p:spPr>
      </p:pic>
      <p:sp>
        <p:nvSpPr>
          <p:cNvPr id="9" name="TextBox 2"/>
          <p:cNvSpPr/>
          <p:nvPr/>
        </p:nvSpPr>
        <p:spPr>
          <a:xfrm>
            <a:off x="6246720" y="6416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0" name="图片 1" descr=""/>
          <p:cNvPicPr/>
          <p:nvPr/>
        </p:nvPicPr>
        <p:blipFill>
          <a:blip r:embed="rId3"/>
          <a:stretch/>
        </p:blipFill>
        <p:spPr>
          <a:xfrm>
            <a:off x="5896080" y="6408720"/>
            <a:ext cx="404640" cy="405000"/>
          </a:xfrm>
          <a:prstGeom prst="rect">
            <a:avLst/>
          </a:prstGeom>
          <a:ln w="0">
            <a:noFill/>
          </a:ln>
        </p:spPr>
      </p:pic>
      <p:sp>
        <p:nvSpPr>
          <p:cNvPr id="11" name="TextBox 2"/>
          <p:cNvSpPr/>
          <p:nvPr/>
        </p:nvSpPr>
        <p:spPr>
          <a:xfrm>
            <a:off x="6246720" y="6416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2" name="图片 1" descr=""/>
          <p:cNvPicPr/>
          <p:nvPr/>
        </p:nvPicPr>
        <p:blipFill>
          <a:blip r:embed="rId4"/>
          <a:stretch/>
        </p:blipFill>
        <p:spPr>
          <a:xfrm>
            <a:off x="5896080" y="6408720"/>
            <a:ext cx="404640" cy="405000"/>
          </a:xfrm>
          <a:prstGeom prst="rect">
            <a:avLst/>
          </a:prstGeom>
          <a:ln w="0">
            <a:noFill/>
          </a:ln>
        </p:spPr>
      </p:pic>
      <p:sp>
        <p:nvSpPr>
          <p:cNvPr id="13" name="TextBox 2"/>
          <p:cNvSpPr/>
          <p:nvPr/>
        </p:nvSpPr>
        <p:spPr>
          <a:xfrm>
            <a:off x="6246720" y="6416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Times New Roman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C1A9-CD8F-4E49-B154-A9687B341A7F}" type="slidenum">
              <a:rPr b="0" lang="ko-KR" sz="1200" spc="-1" strike="noStrike">
                <a:solidFill>
                  <a:srgbClr val="f8f8f8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90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1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2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3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pic>
        <p:nvPicPr>
          <p:cNvPr id="94" name="图片 1" descr=""/>
          <p:cNvPicPr/>
          <p:nvPr/>
        </p:nvPicPr>
        <p:blipFill>
          <a:blip r:embed="rId2"/>
          <a:stretch/>
        </p:blipFill>
        <p:spPr>
          <a:xfrm>
            <a:off x="5292720" y="6048360"/>
            <a:ext cx="693720" cy="693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6126120" y="602136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30120" y="6093000"/>
            <a:ext cx="186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016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年</a:t>
            </a: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5969160" y="6308640"/>
            <a:ext cx="31402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http://stat.dufe.edu.cn/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6126120" y="602136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30120" y="6093000"/>
            <a:ext cx="186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016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年</a:t>
            </a: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5969160" y="6308640"/>
            <a:ext cx="31402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http://stat.dufe.edu.cn/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6126120" y="602136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30120" y="6093000"/>
            <a:ext cx="186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016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年</a:t>
            </a: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3"/>
          <a:stretch/>
        </p:blipFill>
        <p:spPr>
          <a:xfrm>
            <a:off x="5292720" y="6048360"/>
            <a:ext cx="693720" cy="693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3"/>
          <p:cNvSpPr/>
          <p:nvPr/>
        </p:nvSpPr>
        <p:spPr>
          <a:xfrm>
            <a:off x="5969160" y="6308640"/>
            <a:ext cx="31402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http://stat.dufe.edu.cn/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6126120" y="602136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30120" y="6093000"/>
            <a:ext cx="186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016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年</a:t>
            </a: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Times New Roman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3890-FEE1-4EA0-BCC6-B0F7C3B623A7}" type="slidenum">
              <a:rPr b="0" lang="ko-KR" sz="1200" spc="-1" strike="noStrike">
                <a:solidFill>
                  <a:srgbClr val="f8f8f8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539640" y="1773360"/>
            <a:ext cx="807732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99"/>
                </a:solidFill>
                <a:latin typeface="宋体"/>
              </a:rPr>
              <a:t>《</a:t>
            </a:r>
            <a:r>
              <a:rPr b="0" lang="zh-CN" sz="7200" spc="-1" strike="noStrike">
                <a:solidFill>
                  <a:srgbClr val="003399"/>
                </a:solidFill>
                <a:latin typeface="宋体"/>
              </a:rPr>
              <a:t>统计学</a:t>
            </a:r>
            <a:r>
              <a:rPr b="0" lang="en-US" sz="7200" spc="-1" strike="noStrike">
                <a:solidFill>
                  <a:srgbClr val="003399"/>
                </a:solidFill>
                <a:latin typeface="宋体"/>
              </a:rPr>
              <a:t>》</a:t>
            </a:r>
            <a:endParaRPr b="1" lang="en-US" sz="72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99"/>
                </a:solidFill>
                <a:latin typeface="宋体"/>
              </a:rPr>
              <a:t>第一章 导论</a:t>
            </a:r>
            <a:endParaRPr b="1" lang="en-US" sz="7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395280" y="6093000"/>
            <a:ext cx="1728720" cy="57600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学派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5" name="文本框 2"/>
          <p:cNvSpPr/>
          <p:nvPr/>
        </p:nvSpPr>
        <p:spPr>
          <a:xfrm>
            <a:off x="395280" y="1628640"/>
            <a:ext cx="84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数理统计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世纪中末叶以后，概率论的发展和数学方法在社会经济统计方面的运用，促进了概率论与政治算术的结合，从而形成了数理统计学派。数理统计学派的创始人和最杰出的贡献者是比利时的生物学家、数学家和统计学家阿道夫∙凯特勒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Quetelet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96-187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他把古典概率引入社会经济统计学，使统计方法在“政治算术”所建立的“算术”的基础上，在科学化的道路上大大跨进了一步，形成了数理统计学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学派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7" name="文本框 2"/>
          <p:cNvSpPr/>
          <p:nvPr/>
        </p:nvSpPr>
        <p:spPr>
          <a:xfrm>
            <a:off x="395280" y="1628640"/>
            <a:ext cx="846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社会统计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代表人物是德国学者恩格尔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E. Eng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41-19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和梅尔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. V. M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1-18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。这一学派融合了政治算术学派和国势学派的观点，继承和发扬了凯特勒强调的研究社会现象的传统，并把政府统计与社会调查结合起来，形成了自己的研究体系。该学派认为统计学是一门实质的社会科学，是探索社会整体数量方面的规律性的科学，强调以事物为质作为方法论研究的前提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国际统计学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9" name="文本框 2"/>
          <p:cNvSpPr/>
          <p:nvPr/>
        </p:nvSpPr>
        <p:spPr>
          <a:xfrm>
            <a:off x="468360" y="1628640"/>
            <a:ext cx="845964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，第一次国际统计会议在比利时的布鲁塞尔召开，由统计学家凯特勒主持，出席会议的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国家或团体的代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，成立国际统计学会，在伦敦召开预备会议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7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在罗马召开第一届大会。每两年召开一次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，第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届世界统计大会在马来西亚吉隆坡举行，来自全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个国家和地区、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余人参会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24000" y="1863720"/>
            <a:ext cx="383544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章  导论</a:t>
            </a:r>
            <a:endParaRPr b="1" lang="en-US" sz="36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653840" y="2852640"/>
            <a:ext cx="6373800" cy="19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及其应用领域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7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中的基本概念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7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操作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Group 319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183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184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185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186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474920" y="185112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</a:rPr>
              <a:t>第一节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Lucida Sans Unicode"/>
              </a:rPr>
              <a:t>统计及其应用领域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484360" y="3225960"/>
            <a:ext cx="4197600" cy="1860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一、什么是统计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二、统计的应用领域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三、统计研究过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15"/>
          <p:cNvSpPr/>
          <p:nvPr/>
        </p:nvSpPr>
        <p:spPr>
          <a:xfrm>
            <a:off x="34920" y="2060640"/>
            <a:ext cx="2271600" cy="739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统计活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124000" y="1773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各种统计数据进行收集、整理并做出相应的推断、分析的活动，通常可以划分为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统计调查、统计整理和统计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阶段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810360" y="1052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统计的三种含义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57240" y="115920"/>
            <a:ext cx="34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什么是统计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3" name="Oval 3"/>
          <p:cNvSpPr/>
          <p:nvPr/>
        </p:nvSpPr>
        <p:spPr>
          <a:xfrm>
            <a:off x="-36360" y="3406680"/>
            <a:ext cx="2447640" cy="833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统计数据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124000" y="3284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统计活动获得的，用以表现研究现象特征的各种形式的信息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39680" y="4683240"/>
            <a:ext cx="2055960" cy="76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统计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2124000" y="44323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导统计活动的理论和方法，是收集、处理、分析、解释数据，并从数据中得出结论的一门通用的方法论科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468360" y="59500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统计数据是核心，统计数据与统计活动是统计结果与过程的关系，统计活动与统计学是统计实践与理论的关系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9"/>
          <p:cNvSpPr/>
          <p:nvPr/>
        </p:nvSpPr>
        <p:spPr>
          <a:xfrm>
            <a:off x="250920" y="1052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统计学可以分为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理论统计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应用统计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从方法论角度看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统计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方法通常可以概括为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9" name="Rectangle 22"/>
          <p:cNvSpPr/>
          <p:nvPr/>
        </p:nvSpPr>
        <p:spPr>
          <a:xfrm>
            <a:off x="2700360" y="2198520"/>
            <a:ext cx="59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取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客观现象的数据，并通过图表形式对所收集的数据进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工处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进而通过综合、概况与分析，得出反映客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象的规律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数量特征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2700360" y="4508640"/>
            <a:ext cx="59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如何根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样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据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推断总体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数量特征，它是在对样本数据进行描述的基础上，对统计总体的未知数量特征做出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率形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述的推断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250920" y="2208240"/>
            <a:ext cx="237636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描述统计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250920" y="4508640"/>
            <a:ext cx="2376360" cy="76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推断统计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3" name="矩形 8"/>
          <p:cNvSpPr/>
          <p:nvPr/>
        </p:nvSpPr>
        <p:spPr>
          <a:xfrm>
            <a:off x="57240" y="115920"/>
            <a:ext cx="34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什么是统计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04" name="Picture 9" descr="C:\Program Files (x86)\Microsoft Office\MEDIA\OFFICE12\Bullets\BD21298_.gif"/>
          <p:cNvPicPr/>
          <p:nvPr/>
        </p:nvPicPr>
        <p:blipFill>
          <a:blip r:embed="rId1"/>
          <a:stretch/>
        </p:blipFill>
        <p:spPr>
          <a:xfrm>
            <a:off x="5219640" y="4076640"/>
            <a:ext cx="26532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855720" y="2924280"/>
            <a:ext cx="6453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的收集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的加工处理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的显示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分布特征的概括与分析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66560" y="199404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a311c"/>
                </a:solidFill>
                <a:latin typeface="宋体"/>
                <a:ea typeface="宋体"/>
              </a:rPr>
              <a:t>描述统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方法主要包括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7" name="矩形 8"/>
          <p:cNvSpPr/>
          <p:nvPr/>
        </p:nvSpPr>
        <p:spPr>
          <a:xfrm>
            <a:off x="57240" y="115920"/>
            <a:ext cx="34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什么是统计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1067760" y="14097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Lucida Sans Unicode"/>
              </a:rPr>
              <a:t>统计的应用领域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17680" y="2205000"/>
            <a:ext cx="8302320" cy="3780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公共管理领域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决策科学化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经济研究领域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经济研究定量化和数理化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品质量管理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生产过程监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市场调研领域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了解市场信息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人力资源管理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设计合理的绩效考评机制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金融保险领域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相关数据处理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统计的应用领域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87280" y="2017800"/>
            <a:ext cx="8605800" cy="1987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统计学在医学领域、考古领域、心理学领域、气象学领域、物理学领域及生物学领域等也都发挥着重要的作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统计不是万能的，并不能解决人们面临的所有问题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统计方法帮助人们分析数据得出某种结论，但需要相应的专业知识对统计结论进一步解释说明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2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统计的应用领域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1720800"/>
            <a:ext cx="8136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1042"/>
                </a:solidFill>
                <a:latin typeface="Lucida Sans Unicode"/>
              </a:rPr>
              <a:t>统计</a:t>
            </a:r>
            <a:r>
              <a:rPr b="0" i="1" lang="zh-CN" sz="3200" spc="-1" strike="noStrike">
                <a:solidFill>
                  <a:srgbClr val="006666"/>
                </a:solidFill>
                <a:latin typeface="Lucida Sans Unicode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是“认识社会的最有力的武器之一”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列宁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39640" y="3471840"/>
            <a:ext cx="806472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atistical thinking will one day be as necessary for  efficient citizenship as the ability to read and write.   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——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.G.Well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英国作家、历史学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88800" y="162864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统计研究过程包括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979640" y="2421000"/>
            <a:ext cx="403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统计设计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数据收集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数据整理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数据分析与解释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5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统计研究过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9"/>
          <p:cNvSpPr/>
          <p:nvPr/>
        </p:nvSpPr>
        <p:spPr>
          <a:xfrm>
            <a:off x="468360" y="3500280"/>
            <a:ext cx="80089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确定统计研究的对象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明确所要收集数据的种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确定相应的统计指标及其体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确定统计数据收集、整理、推断和分析的基本方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规定研究工作的进度安排和质量要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拟定研究工作的资源配置和组织实施方式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95280" y="198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统计设计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124000" y="1835280"/>
            <a:ext cx="63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对整个统计研究过程所涉及的各个环节进行的通盘考虑和事先安排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95280" y="2924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宋体"/>
              </a:rPr>
              <a:t>统计设计的内容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统计研究过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6"/>
          <p:cNvSpPr/>
          <p:nvPr/>
        </p:nvSpPr>
        <p:spPr>
          <a:xfrm>
            <a:off x="324000" y="24098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数据收集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124000" y="212256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是按照统计设计的要求，通过统计观测或实验的方式、方法，收集所需的原始数据以及其它已经存在的各种相关数据的过程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3" name="矩形 1"/>
          <p:cNvSpPr/>
          <p:nvPr/>
        </p:nvSpPr>
        <p:spPr>
          <a:xfrm>
            <a:off x="250920" y="4040280"/>
            <a:ext cx="8313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4920" indent="-457200">
              <a:lnSpc>
                <a:spcPct val="120000"/>
              </a:lnSpc>
              <a:spcBef>
                <a:spcPts val="1199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收集是否准确、及时、完整，将直接影响到统计分析的质量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4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统计研究过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6"/>
          <p:cNvSpPr/>
          <p:nvPr/>
        </p:nvSpPr>
        <p:spPr>
          <a:xfrm>
            <a:off x="322200" y="15415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数据整理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2195640" y="1214280"/>
            <a:ext cx="676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是对通过统计观测或实验所获得的原始数据，进行必要的系统化处理，使之条理化、综合化，成为能够反映总体特征的统计数据的过程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106200" y="3932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数据分析与解释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2814480" y="3357720"/>
            <a:ext cx="617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是在数据整理结果的基础上，围绕统计设计所确定的研究任务，运用各种统计方法对数据进行分析，得出某些有用的定量结论的过程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解释是对数据分析结果的进一步说明，是对数据分析过程的深化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统计研究过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258920" y="17082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</a:rPr>
              <a:t>第二节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Lucida Sans Unicode"/>
              </a:rPr>
              <a:t>统计学中的基本概念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124000" y="2787480"/>
            <a:ext cx="4535640" cy="26614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总体与样本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参数与统计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标志与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340000" y="1663560"/>
            <a:ext cx="6475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包含所研究对象的全部个体（数据）的集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786120" y="2997360"/>
            <a:ext cx="5106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组成总体的每一个元素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466560" y="4076640"/>
            <a:ext cx="8209080" cy="156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总体由总体单位构成，要认识总体必须从总体单位开始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总体是统计认识的对象，总体范围对于确定的研究目的是唯一确定的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总体或总体单位的区分不是固定的，在一定条件下可以相互转化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5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总体与样本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84360" y="1844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总体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09600" y="2994120"/>
            <a:ext cx="33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总体单位（个体）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7"/>
          <p:cNvSpPr/>
          <p:nvPr/>
        </p:nvSpPr>
        <p:spPr>
          <a:xfrm>
            <a:off x="1979640" y="2133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总体的范围能够明确界定，所包含个体的数目是有限可数的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979640" y="3573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包含个体的数目是无限的、不可数的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460440" y="4581360"/>
            <a:ext cx="834228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把总体分为有限总体和无限总体，主要是为了判别在抽样中每次抽取是否独立。抽取个体的过程是否独立，会影响到抽样推断的结果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1" name="左大括号 2"/>
          <p:cNvSpPr/>
          <p:nvPr/>
        </p:nvSpPr>
        <p:spPr>
          <a:xfrm>
            <a:off x="1697040" y="1881360"/>
            <a:ext cx="210960" cy="2195280"/>
          </a:xfrm>
          <a:custGeom>
            <a:avLst/>
            <a:gdLst>
              <a:gd name="textAreaLeft" fmla="*/ 135000 w 210960"/>
              <a:gd name="textAreaRight" fmla="*/ 211320 w 210960"/>
              <a:gd name="textAreaTop" fmla="*/ 7920 h 2195280"/>
              <a:gd name="textAreaBottom" fmla="*/ 2187360 h 21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"/>
                  <a:pt x="10800" y="256"/>
                </a:cubicBezTo>
                <a:lnTo>
                  <a:pt x="10800" y="10544"/>
                </a:lnTo>
                <a:cubicBezTo>
                  <a:pt x="10800" y="10672"/>
                  <a:pt x="5400" y="10800"/>
                  <a:pt x="0" y="10800"/>
                </a:cubicBezTo>
                <a:cubicBezTo>
                  <a:pt x="5400" y="10800"/>
                  <a:pt x="10800" y="10928"/>
                  <a:pt x="10800" y="11056"/>
                </a:cubicBezTo>
                <a:lnTo>
                  <a:pt x="10800" y="21344"/>
                </a:lnTo>
                <a:cubicBezTo>
                  <a:pt x="10800" y="21472"/>
                  <a:pt x="16200" y="21600"/>
                  <a:pt x="21600" y="21600"/>
                </a:cubicBezTo>
              </a:path>
            </a:pathLst>
          </a:custGeom>
          <a:solidFill>
            <a:srgbClr val="f8f8f8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76440" y="269388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宋体"/>
              </a:rPr>
              <a:t>总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978200" y="16858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有限总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979640" y="3068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无限总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总体与样本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92360" y="1590840"/>
            <a:ext cx="685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从统计总体中抽取出来作为代表这一总体的、由部分个体组成的集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324000" y="4437000"/>
            <a:ext cx="853416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当总体所包含的个体单位数目很多时，可以抽取总体中的部分个体组成样本，根据样本提供的信息推断总体的特征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80880" y="184140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样本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32040" y="3122640"/>
            <a:ext cx="6686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构成样本的个体数目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80880" y="314784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样本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总体与样本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1403280" y="1484280"/>
            <a:ext cx="7367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来描述总体特征的概括性数字度量，为未知常数。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比如：总体平均数  、总体标准差   、总体比例  、相关系数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547640" y="3284640"/>
            <a:ext cx="7061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来描述样本特征的概括性数字度量，根据样本数据计算得到。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比如，样本平均数  、样本标准差  、样本比例  等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392040" y="5373720"/>
            <a:ext cx="7996320" cy="10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抽样的目的是根据样本统计量去估计总体参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参数通常是未知常数，统计量是样本的函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50920" y="191304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参数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79280" y="3713040"/>
            <a:ext cx="20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统计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11"/>
              <p:cNvSpPr txBox="1"/>
              <p:nvPr/>
            </p:nvSpPr>
            <p:spPr>
              <a:xfrm>
                <a:off x="5392800" y="2206800"/>
                <a:ext cx="3315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2"/>
              <p:cNvSpPr txBox="1"/>
              <p:nvPr/>
            </p:nvSpPr>
            <p:spPr>
              <a:xfrm>
                <a:off x="7985160" y="2205000"/>
                <a:ext cx="3319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3"/>
              <p:cNvSpPr txBox="1"/>
              <p:nvPr/>
            </p:nvSpPr>
            <p:spPr>
              <a:xfrm>
                <a:off x="2916360" y="2708280"/>
                <a:ext cx="360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4"/>
              <p:cNvSpPr txBox="1"/>
              <p:nvPr/>
            </p:nvSpPr>
            <p:spPr>
              <a:xfrm>
                <a:off x="5103720" y="2666880"/>
                <a:ext cx="331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5"/>
              <p:cNvSpPr txBox="1"/>
              <p:nvPr/>
            </p:nvSpPr>
            <p:spPr>
              <a:xfrm>
                <a:off x="7666200" y="4006800"/>
                <a:ext cx="304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6"/>
              <p:cNvSpPr txBox="1"/>
              <p:nvPr/>
            </p:nvSpPr>
            <p:spPr>
              <a:xfrm>
                <a:off x="3446640" y="4508640"/>
                <a:ext cx="2491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7"/>
              <p:cNvSpPr txBox="1"/>
              <p:nvPr/>
            </p:nvSpPr>
            <p:spPr>
              <a:xfrm>
                <a:off x="5557680" y="4454640"/>
                <a:ext cx="3333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参数与统计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2209680" y="1052640"/>
            <a:ext cx="6782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每个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个体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共同具有的属性和特征，是说明个体的属性或特征的具体名称；标志的具体表现称为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标志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2482920" y="2693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明事物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“质”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特性的标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2500200" y="3557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明事物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“量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的特性的标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1793880" y="4332240"/>
            <a:ext cx="630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中，可变的数量标志又被叫作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变量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1378080" y="4187880"/>
            <a:ext cx="457200" cy="609480"/>
          </a:xfrm>
          <a:custGeom>
            <a:avLst/>
            <a:gdLst>
              <a:gd name="textAreaLeft" fmla="*/ 61200 w 457200"/>
              <a:gd name="textAreaRight" fmla="*/ 396000 w 4572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30040" y="5003640"/>
            <a:ext cx="851868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统计研究从登记标志开始，并通过对标志的综合来反映总体的数量特征，因此标志是统计研究的起点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57320" y="1554120"/>
            <a:ext cx="19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统计标志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2" name="左大括号 2"/>
          <p:cNvSpPr/>
          <p:nvPr/>
        </p:nvSpPr>
        <p:spPr>
          <a:xfrm>
            <a:off x="506520" y="2749680"/>
            <a:ext cx="104760" cy="1110960"/>
          </a:xfrm>
          <a:custGeom>
            <a:avLst/>
            <a:gdLst>
              <a:gd name="textAreaLeft" fmla="*/ 66960 w 104760"/>
              <a:gd name="textAreaRight" fmla="*/ 105120 w 104760"/>
              <a:gd name="textAreaTop" fmla="*/ 3960 h 1110960"/>
              <a:gd name="textAreaBottom" fmla="*/ 1107000 h 111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"/>
                  <a:pt x="10800" y="256"/>
                </a:cubicBezTo>
                <a:lnTo>
                  <a:pt x="10800" y="10544"/>
                </a:lnTo>
                <a:cubicBezTo>
                  <a:pt x="10800" y="10672"/>
                  <a:pt x="5400" y="10800"/>
                  <a:pt x="0" y="10800"/>
                </a:cubicBezTo>
                <a:cubicBezTo>
                  <a:pt x="5400" y="10800"/>
                  <a:pt x="10800" y="10928"/>
                  <a:pt x="10800" y="11056"/>
                </a:cubicBezTo>
                <a:lnTo>
                  <a:pt x="10800" y="21344"/>
                </a:lnTo>
                <a:cubicBezTo>
                  <a:pt x="10800" y="21472"/>
                  <a:pt x="16200" y="21600"/>
                  <a:pt x="21600" y="21600"/>
                </a:cubicBezTo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795240" y="2693880"/>
            <a:ext cx="20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品质标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26920" y="3630600"/>
            <a:ext cx="20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数量标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5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标志与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6" name="TextBox 12"/>
          <p:cNvSpPr/>
          <p:nvPr/>
        </p:nvSpPr>
        <p:spPr>
          <a:xfrm>
            <a:off x="3714480" y="3244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如：企业性质，所属行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7" name="TextBox 13"/>
          <p:cNvSpPr/>
          <p:nvPr/>
        </p:nvSpPr>
        <p:spPr>
          <a:xfrm>
            <a:off x="4137840" y="403704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如：职工人数，产值，销售收入，工资总额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的起源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58" name="图片 1" descr=""/>
          <p:cNvPicPr/>
          <p:nvPr/>
        </p:nvPicPr>
        <p:blipFill>
          <a:blip r:embed="rId1"/>
          <a:stretch/>
        </p:blipFill>
        <p:spPr>
          <a:xfrm>
            <a:off x="3611520" y="3819600"/>
            <a:ext cx="2914560" cy="2673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s://timgsa.baidu.com/timg?image&amp;quality=80&amp;size=b9999_10000&amp;sec=1599196257388&amp;di=f9e162fe02f4eade14084909b389b739&amp;imgtype=0&amp;src=http%3A%2F%2F5b0988e595225.cdn.sohucs.com%2Fimages%2F20180630%2F3172e58a982543808a315eddffb332bd.jpeg"/>
          <p:cNvPicPr/>
          <p:nvPr/>
        </p:nvPicPr>
        <p:blipFill>
          <a:blip r:embed="rId2"/>
          <a:stretch/>
        </p:blipFill>
        <p:spPr>
          <a:xfrm>
            <a:off x="6588000" y="3976560"/>
            <a:ext cx="1729080" cy="251640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395280" y="1125360"/>
            <a:ext cx="8064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统计的萌芽活动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统计的实践活动先于统计学的产生。统计从产生到形成为一门完整的知识体系至今已有四五千年的历史。它的</a:t>
            </a: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实践活动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可以追溯到我国原始社会末期，当时人们按部落、氏族居住在一起，打猎、捕鱼、分配食物都要进行最简单的计数。从</a:t>
            </a: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结绳记事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开始，就有了对社会现象的简单计量活动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50920" y="2997360"/>
            <a:ext cx="18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统计标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5640480" y="1486080"/>
            <a:ext cx="2676600" cy="934920"/>
          </a:xfrm>
          <a:prstGeom prst="wedgeRectCallout">
            <a:avLst>
              <a:gd name="adj1" fmla="val -80365"/>
              <a:gd name="adj2" fmla="val 32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不变标志决定总体的同质性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971640" y="4876920"/>
            <a:ext cx="2609640" cy="928440"/>
          </a:xfrm>
          <a:prstGeom prst="wedgeRectCallout">
            <a:avLst>
              <a:gd name="adj1" fmla="val 65574"/>
              <a:gd name="adj2" fmla="val -1419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变异标志决定总体的差异性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5791320" y="3209760"/>
            <a:ext cx="2361600" cy="1595880"/>
            <a:chOff x="5791320" y="3209760"/>
            <a:chExt cx="2361600" cy="1595880"/>
          </a:xfrm>
        </p:grpSpPr>
        <p:sp>
          <p:nvSpPr>
            <p:cNvPr id="282" name="AutoShape 6"/>
            <p:cNvSpPr/>
            <p:nvPr/>
          </p:nvSpPr>
          <p:spPr>
            <a:xfrm>
              <a:off x="5791320" y="3362040"/>
              <a:ext cx="228240" cy="129564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52560 h 1295640"/>
                <a:gd name="textAreaBottom" fmla="*/ 124308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07"/>
                    <a:pt x="10800" y="2813"/>
                  </a:cubicBezTo>
                  <a:lnTo>
                    <a:pt x="10800" y="7987"/>
                  </a:lnTo>
                  <a:cubicBezTo>
                    <a:pt x="10800" y="9394"/>
                    <a:pt x="5400" y="10800"/>
                    <a:pt x="0" y="10800"/>
                  </a:cubicBezTo>
                  <a:cubicBezTo>
                    <a:pt x="5400" y="10800"/>
                    <a:pt x="10800" y="12207"/>
                    <a:pt x="10800" y="13613"/>
                  </a:cubicBezTo>
                  <a:lnTo>
                    <a:pt x="10800" y="18787"/>
                  </a:lnTo>
                  <a:cubicBezTo>
                    <a:pt x="10800" y="20194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5943240" y="3209760"/>
              <a:ext cx="220968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品质标志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数量标志       </a:t>
              </a:r>
              <a:r>
                <a:rPr b="0" lang="zh-CN" sz="28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（变量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grpSp>
        <p:nvGrpSpPr>
          <p:cNvPr id="284" name="Group 9"/>
          <p:cNvGrpSpPr/>
          <p:nvPr/>
        </p:nvGrpSpPr>
        <p:grpSpPr>
          <a:xfrm>
            <a:off x="1979640" y="1981080"/>
            <a:ext cx="4304880" cy="2374200"/>
            <a:chOff x="1979640" y="1981080"/>
            <a:chExt cx="4304880" cy="2374200"/>
          </a:xfrm>
        </p:grpSpPr>
        <p:sp>
          <p:nvSpPr>
            <p:cNvPr id="285" name="AutoShape 10"/>
            <p:cNvSpPr/>
            <p:nvPr/>
          </p:nvSpPr>
          <p:spPr>
            <a:xfrm>
              <a:off x="1979640" y="2352960"/>
              <a:ext cx="258120" cy="1784520"/>
            </a:xfrm>
            <a:custGeom>
              <a:avLst/>
              <a:gdLst>
                <a:gd name="textAreaLeft" fmla="*/ 164880 w 258120"/>
                <a:gd name="textAreaRight" fmla="*/ 258120 w 258120"/>
                <a:gd name="textAreaTop" fmla="*/ 46440 h 1784520"/>
                <a:gd name="textAreaBottom" fmla="*/ 1738080 h 178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493"/>
                  </a:lnTo>
                  <a:cubicBezTo>
                    <a:pt x="10800" y="10393"/>
                    <a:pt x="5400" y="11293"/>
                    <a:pt x="0" y="11293"/>
                  </a:cubicBezTo>
                  <a:cubicBezTo>
                    <a:pt x="5400" y="11293"/>
                    <a:pt x="10800" y="12193"/>
                    <a:pt x="10800" y="130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86" name="Rectangle 11"/>
            <p:cNvSpPr/>
            <p:nvPr/>
          </p:nvSpPr>
          <p:spPr>
            <a:xfrm>
              <a:off x="3021120" y="1981080"/>
              <a:ext cx="2100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不变标志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ff3300"/>
                  </a:solidFill>
                  <a:latin typeface="宋体"/>
                </a:rPr>
                <a:t>（</a:t>
              </a:r>
              <a:r>
                <a:rPr b="0" lang="zh-CN" sz="2800" spc="-1" strike="noStrike">
                  <a:solidFill>
                    <a:srgbClr val="ff3300"/>
                  </a:solidFill>
                  <a:latin typeface="宋体"/>
                </a:rPr>
                <a:t>标志表现无差别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1979640" y="3408120"/>
              <a:ext cx="4304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可变标志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（标志表现有差别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288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标志与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89" name="TextBox 12"/>
          <p:cNvSpPr/>
          <p:nvPr/>
        </p:nvSpPr>
        <p:spPr>
          <a:xfrm>
            <a:off x="4534560" y="29084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如：某大连市中小民营企业生产经营情况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3581280" y="5013360"/>
            <a:ext cx="54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如：某市中小民营企业的厂址、隶属关系、职工人数、固定资产总额、平均工资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324000" y="5950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是非标志（交替标志、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宋体"/>
              </a:rPr>
              <a:t>0-1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标志）：用“是”或“否”、“有”或“无”来表示的标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2666880" y="1197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社会经济现象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总体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量特征的概念及其具体数值，由各个个体的标志值汇总综合而成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93" name="Group 28" descr=""/>
          <p:cNvPicPr/>
          <p:nvPr/>
        </p:nvPicPr>
        <p:blipFill>
          <a:blip r:embed="rId1"/>
          <a:stretch/>
        </p:blipFill>
        <p:spPr>
          <a:xfrm>
            <a:off x="365040" y="4389480"/>
            <a:ext cx="8302680" cy="9144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0"/>
          <p:cNvSpPr/>
          <p:nvPr/>
        </p:nvSpPr>
        <p:spPr>
          <a:xfrm>
            <a:off x="984240" y="33465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时间限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2708280" y="3346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空间限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111560" y="3846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指标名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6156360" y="3346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具体数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7524720" y="3346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计量单位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4111560" y="32702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计算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734400" y="256536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构成要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1" name="Rectangle 21"/>
          <p:cNvSpPr/>
          <p:nvPr/>
        </p:nvSpPr>
        <p:spPr>
          <a:xfrm>
            <a:off x="663480" y="5595840"/>
            <a:ext cx="7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2724480" y="256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标名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3" name="加号 4"/>
          <p:cNvSpPr/>
          <p:nvPr/>
        </p:nvSpPr>
        <p:spPr>
          <a:xfrm>
            <a:off x="4140360" y="263196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57235" y="165120"/>
                </a:moveTo>
                <a:lnTo>
                  <a:pt x="165120" y="165120"/>
                </a:lnTo>
                <a:lnTo>
                  <a:pt x="165120" y="57235"/>
                </a:lnTo>
                <a:lnTo>
                  <a:pt x="266680" y="57235"/>
                </a:lnTo>
                <a:lnTo>
                  <a:pt x="266680" y="165120"/>
                </a:lnTo>
                <a:lnTo>
                  <a:pt x="374565" y="165120"/>
                </a:lnTo>
                <a:lnTo>
                  <a:pt x="374565" y="266680"/>
                </a:lnTo>
                <a:lnTo>
                  <a:pt x="266680" y="266680"/>
                </a:lnTo>
                <a:lnTo>
                  <a:pt x="266680" y="374565"/>
                </a:lnTo>
                <a:lnTo>
                  <a:pt x="165120" y="374565"/>
                </a:lnTo>
                <a:lnTo>
                  <a:pt x="165120" y="266680"/>
                </a:lnTo>
                <a:lnTo>
                  <a:pt x="57235" y="266680"/>
                </a:lnTo>
                <a:lnTo>
                  <a:pt x="57235" y="1651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5002560" y="255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标数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380880" y="1577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2503800" y="558972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数量性  具体性  综合性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7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标志与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8" name="TextBox 22"/>
          <p:cNvSpPr/>
          <p:nvPr/>
        </p:nvSpPr>
        <p:spPr>
          <a:xfrm>
            <a:off x="839880" y="6181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注意统计口径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1"/>
          <p:cNvSpPr/>
          <p:nvPr/>
        </p:nvSpPr>
        <p:spPr>
          <a:xfrm>
            <a:off x="2484360" y="2900520"/>
            <a:ext cx="2057400" cy="990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现象之间的相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对数量特征，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关联关系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7169040" y="152280"/>
            <a:ext cx="1600200" cy="99072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物指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（吨、台等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2484360" y="1647720"/>
            <a:ext cx="20574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绝对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现象总体的绝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对数量特征，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外在数量特征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12" name="AutoShape 10"/>
          <p:cNvCxnSpPr/>
          <p:nvPr/>
        </p:nvCxnSpPr>
        <p:spPr>
          <a:xfrm>
            <a:off x="4470480" y="3390840"/>
            <a:ext cx="305280" cy="6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3" name="AutoShape 11"/>
          <p:cNvCxnSpPr/>
          <p:nvPr/>
        </p:nvCxnSpPr>
        <p:spPr>
          <a:xfrm flipV="1">
            <a:off x="4470480" y="3999960"/>
            <a:ext cx="30528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4" name="AutoShape 12"/>
          <p:cNvCxnSpPr/>
          <p:nvPr/>
        </p:nvCxnSpPr>
        <p:spPr>
          <a:xfrm flipV="1">
            <a:off x="4355640" y="1699560"/>
            <a:ext cx="469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15" name="AutoShape 13"/>
          <p:cNvSpPr/>
          <p:nvPr/>
        </p:nvSpPr>
        <p:spPr>
          <a:xfrm>
            <a:off x="2556000" y="5554800"/>
            <a:ext cx="1701720" cy="1187280"/>
          </a:xfrm>
          <a:prstGeom prst="upArrowCallout">
            <a:avLst>
              <a:gd name="adj1" fmla="val 33646"/>
              <a:gd name="adj2" fmla="val 33649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按表现形式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5075280" y="5554800"/>
            <a:ext cx="1657440" cy="1187280"/>
          </a:xfrm>
          <a:prstGeom prst="upArrowCallout">
            <a:avLst>
              <a:gd name="adj1" fmla="val 33365"/>
              <a:gd name="adj2" fmla="val 33355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按数量特征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324000" y="5554800"/>
            <a:ext cx="1858680" cy="1187280"/>
          </a:xfrm>
          <a:prstGeom prst="upArrowCallout">
            <a:avLst>
              <a:gd name="adj1" fmla="val 35720"/>
              <a:gd name="adj2" fmla="val 3571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按时间状态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7451640" y="5554800"/>
            <a:ext cx="1613160" cy="1187280"/>
          </a:xfrm>
          <a:prstGeom prst="upArrowCallout">
            <a:avLst>
              <a:gd name="adj1" fmla="val 31505"/>
              <a:gd name="adj2" fmla="val 31508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按计量单位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7169040" y="2438280"/>
            <a:ext cx="1600200" cy="99072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劳动指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（工日、台时等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0" name="Rectangle 18"/>
          <p:cNvSpPr/>
          <p:nvPr/>
        </p:nvSpPr>
        <p:spPr>
          <a:xfrm>
            <a:off x="7169040" y="1295280"/>
            <a:ext cx="1600200" cy="99072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值指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（元、美元等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21" name="AutoShape 19"/>
          <p:cNvCxnSpPr/>
          <p:nvPr/>
        </p:nvCxnSpPr>
        <p:spPr>
          <a:xfrm>
            <a:off x="6443640" y="1790280"/>
            <a:ext cx="7912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2" name="AutoShape 20"/>
          <p:cNvCxnSpPr/>
          <p:nvPr/>
        </p:nvCxnSpPr>
        <p:spPr>
          <a:xfrm>
            <a:off x="6443640" y="1790280"/>
            <a:ext cx="791280" cy="1143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3" name="AutoShape 22"/>
          <p:cNvSpPr/>
          <p:nvPr/>
        </p:nvSpPr>
        <p:spPr>
          <a:xfrm>
            <a:off x="2484360" y="4309920"/>
            <a:ext cx="20574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均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现象总体的平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均数量特征，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一般数量水平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24" name="AutoShape 24"/>
          <p:cNvCxnSpPr>
            <a:endCxn id="310" idx="1"/>
          </p:cNvCxnSpPr>
          <p:nvPr/>
        </p:nvCxnSpPr>
        <p:spPr>
          <a:xfrm flipV="1">
            <a:off x="6443280" y="646920"/>
            <a:ext cx="726120" cy="1143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5" name="Rectangle 25"/>
          <p:cNvSpPr/>
          <p:nvPr/>
        </p:nvSpPr>
        <p:spPr>
          <a:xfrm>
            <a:off x="2392920" y="152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Lucida Sans Unicode"/>
              </a:rPr>
              <a:t>统计指标的基本分类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6" name="直接连接符 42"/>
          <p:cNvSpPr/>
          <p:nvPr/>
        </p:nvSpPr>
        <p:spPr>
          <a:xfrm>
            <a:off x="3419640" y="647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7" name="直接连接符 44"/>
          <p:cNvSpPr/>
          <p:nvPr/>
        </p:nvSpPr>
        <p:spPr>
          <a:xfrm>
            <a:off x="1187280" y="838080"/>
            <a:ext cx="446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179280" y="1484280"/>
            <a:ext cx="20574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态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在某一时点或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静止时间上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200160" y="2894040"/>
            <a:ext cx="20574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在不同时期或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时点上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4748040" y="1447920"/>
            <a:ext cx="2057400" cy="1117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量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总体的规模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或水平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4716360" y="3654360"/>
            <a:ext cx="20574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质量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现象之间相互联系、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比例关系、发展速度、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内部结构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2" name="圆角矩形 49"/>
          <p:cNvSpPr/>
          <p:nvPr/>
        </p:nvSpPr>
        <p:spPr>
          <a:xfrm>
            <a:off x="2484360" y="1484280"/>
            <a:ext cx="1943280" cy="129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3" name="圆角矩形 50"/>
          <p:cNvSpPr/>
          <p:nvPr/>
        </p:nvSpPr>
        <p:spPr>
          <a:xfrm>
            <a:off x="2484360" y="2852640"/>
            <a:ext cx="1943280" cy="129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4" name="圆角矩形 51"/>
          <p:cNvSpPr/>
          <p:nvPr/>
        </p:nvSpPr>
        <p:spPr>
          <a:xfrm>
            <a:off x="2484360" y="4221000"/>
            <a:ext cx="194328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5" name="圆角矩形 53"/>
          <p:cNvSpPr/>
          <p:nvPr/>
        </p:nvSpPr>
        <p:spPr>
          <a:xfrm>
            <a:off x="4788000" y="1484280"/>
            <a:ext cx="165564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6" name="圆角矩形 54"/>
          <p:cNvSpPr/>
          <p:nvPr/>
        </p:nvSpPr>
        <p:spPr>
          <a:xfrm>
            <a:off x="4788000" y="3460680"/>
            <a:ext cx="2376360" cy="1408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7" name="直接连接符 56"/>
          <p:cNvSpPr/>
          <p:nvPr/>
        </p:nvSpPr>
        <p:spPr>
          <a:xfrm>
            <a:off x="1187280" y="8380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8" name="直接连接符 57"/>
          <p:cNvSpPr/>
          <p:nvPr/>
        </p:nvSpPr>
        <p:spPr>
          <a:xfrm>
            <a:off x="1187280" y="2492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9" name="直接连接符 58"/>
          <p:cNvSpPr/>
          <p:nvPr/>
        </p:nvSpPr>
        <p:spPr>
          <a:xfrm>
            <a:off x="3419640" y="8380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0" name="直接连接符 59"/>
          <p:cNvSpPr/>
          <p:nvPr/>
        </p:nvSpPr>
        <p:spPr>
          <a:xfrm>
            <a:off x="5651640" y="8380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1" name="直接连接符 60"/>
          <p:cNvSpPr/>
          <p:nvPr/>
        </p:nvSpPr>
        <p:spPr>
          <a:xfrm>
            <a:off x="5651640" y="2570040"/>
            <a:ext cx="0" cy="9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2" name="直接连接符 61"/>
          <p:cNvSpPr/>
          <p:nvPr/>
        </p:nvSpPr>
        <p:spPr>
          <a:xfrm>
            <a:off x="3419640" y="278136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3" name="直接连接符 62"/>
          <p:cNvSpPr/>
          <p:nvPr/>
        </p:nvSpPr>
        <p:spPr>
          <a:xfrm>
            <a:off x="3419640" y="414972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5"/>
          <p:cNvSpPr/>
          <p:nvPr/>
        </p:nvSpPr>
        <p:spPr>
          <a:xfrm>
            <a:off x="1338840" y="1325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统计指标与标志的区别与联系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5" name="Rectangle 42"/>
          <p:cNvSpPr/>
          <p:nvPr/>
        </p:nvSpPr>
        <p:spPr>
          <a:xfrm>
            <a:off x="485640" y="2595600"/>
            <a:ext cx="8407440" cy="126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说明对象不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指标说明的是总体的特征，而标志则反映的是个体的特征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表现形式不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指标只能用数值来表现，而标志则既有用文字来表现的品质标志，也有用数值来表现的数量标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6" name="Rectangle 43"/>
          <p:cNvSpPr/>
          <p:nvPr/>
        </p:nvSpPr>
        <p:spPr>
          <a:xfrm>
            <a:off x="485640" y="5013360"/>
            <a:ext cx="8263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统计指标的数值是根据说明个体特征的标志表现汇总得到的，既可以是对总体各单位标志值的综合，也可能是总体单位数的汇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433440" y="203508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区别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8" name="Rectangle 45"/>
          <p:cNvSpPr/>
          <p:nvPr/>
        </p:nvSpPr>
        <p:spPr>
          <a:xfrm>
            <a:off x="485640" y="44226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联系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9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标志与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809640" y="13971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：与最初的研究目的相关联，我们总是对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总体及其所包含的个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某一个或某几个方面的属性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感兴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这些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属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统计中又被称作变量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51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166760" y="1197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变量的种类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49200" y="3956040"/>
            <a:ext cx="2065680" cy="1726560"/>
            <a:chOff x="349200" y="3956040"/>
            <a:chExt cx="2065680" cy="1726560"/>
          </a:xfrm>
        </p:grpSpPr>
        <p:sp>
          <p:nvSpPr>
            <p:cNvPr id="354" name="Rectangle 8">
              <a:hlinkClick r:id="rId1" action="ppaction://hlinksldjump"/>
            </p:cNvPr>
            <p:cNvSpPr/>
            <p:nvPr/>
          </p:nvSpPr>
          <p:spPr>
            <a:xfrm>
              <a:off x="1166040" y="5137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连续型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55" name="Rectangle 9">
              <a:hlinkClick r:id="rId2" action="ppaction://hlinksldjump"/>
            </p:cNvPr>
            <p:cNvSpPr/>
            <p:nvPr/>
          </p:nvSpPr>
          <p:spPr>
            <a:xfrm>
              <a:off x="1167480" y="39560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离散型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56" name="AutoShape 10"/>
            <p:cNvSpPr/>
            <p:nvPr/>
          </p:nvSpPr>
          <p:spPr>
            <a:xfrm>
              <a:off x="349200" y="3976560"/>
              <a:ext cx="229320" cy="1706040"/>
            </a:xfrm>
            <a:custGeom>
              <a:avLst/>
              <a:gdLst>
                <a:gd name="textAreaLeft" fmla="*/ 146520 w 229320"/>
                <a:gd name="textAreaRight" fmla="*/ 229680 w 229320"/>
                <a:gd name="textAreaTop" fmla="*/ 44280 h 1706040"/>
                <a:gd name="textAreaBottom" fmla="*/ 1661760 h 170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grpSp>
        <p:nvGrpSpPr>
          <p:cNvPr id="357" name="Group 11"/>
          <p:cNvGrpSpPr/>
          <p:nvPr/>
        </p:nvGrpSpPr>
        <p:grpSpPr>
          <a:xfrm>
            <a:off x="2771640" y="1932120"/>
            <a:ext cx="6048000" cy="3615480"/>
            <a:chOff x="2771640" y="1932120"/>
            <a:chExt cx="6048000" cy="3615480"/>
          </a:xfrm>
        </p:grpSpPr>
        <p:sp>
          <p:nvSpPr>
            <p:cNvPr id="358" name="Text Box 12"/>
            <p:cNvSpPr/>
            <p:nvPr/>
          </p:nvSpPr>
          <p:spPr>
            <a:xfrm>
              <a:off x="2914560" y="2039040"/>
              <a:ext cx="57506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59" name="Text Box 13"/>
            <p:cNvSpPr/>
            <p:nvPr/>
          </p:nvSpPr>
          <p:spPr>
            <a:xfrm>
              <a:off x="2771640" y="1932120"/>
              <a:ext cx="60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如果数值是随机生成的，有多种可能性，事先无法确定</a:t>
              </a:r>
              <a:endParaRPr b="1" lang="en-US" sz="24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60" name="Text Box 14"/>
            <p:cNvSpPr/>
            <p:nvPr/>
          </p:nvSpPr>
          <p:spPr>
            <a:xfrm>
              <a:off x="2771640" y="5087880"/>
              <a:ext cx="60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如果变量的取值不能一一列举，在相邻的两个变量值之间可以继续分割，取得新的变量值，即变量值理论上可以取任何小数值</a:t>
              </a:r>
              <a:endParaRPr b="1" lang="en-US" sz="24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61" name="Text Box 15"/>
            <p:cNvSpPr/>
            <p:nvPr/>
          </p:nvSpPr>
          <p:spPr>
            <a:xfrm>
              <a:off x="2771640" y="3874320"/>
              <a:ext cx="60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如果变量的取值可以一一列举，在相邻的两个变量之间不可能分割出新的变量值，即变量值只能表现为整数</a:t>
              </a:r>
              <a:endParaRPr b="1" lang="en-US" sz="24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grpSp>
        <p:nvGrpSpPr>
          <p:cNvPr id="362" name="Group 7"/>
          <p:cNvGrpSpPr/>
          <p:nvPr/>
        </p:nvGrpSpPr>
        <p:grpSpPr>
          <a:xfrm>
            <a:off x="423720" y="1933560"/>
            <a:ext cx="1990080" cy="1563480"/>
            <a:chOff x="423720" y="1933560"/>
            <a:chExt cx="1990080" cy="1563480"/>
          </a:xfrm>
        </p:grpSpPr>
        <p:sp>
          <p:nvSpPr>
            <p:cNvPr id="363" name="Rectangle 8">
              <a:hlinkClick r:id="rId3" action="ppaction://hlinksldjump"/>
            </p:cNvPr>
            <p:cNvSpPr/>
            <p:nvPr/>
          </p:nvSpPr>
          <p:spPr>
            <a:xfrm>
              <a:off x="1166400" y="29764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确定性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64" name="Rectangle 9">
              <a:hlinkClick r:id="rId4" action="ppaction://hlinksldjump"/>
            </p:cNvPr>
            <p:cNvSpPr/>
            <p:nvPr/>
          </p:nvSpPr>
          <p:spPr>
            <a:xfrm>
              <a:off x="1095120" y="1933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随机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65" name="AutoShape 10"/>
            <p:cNvSpPr/>
            <p:nvPr/>
          </p:nvSpPr>
          <p:spPr>
            <a:xfrm>
              <a:off x="423720" y="2020680"/>
              <a:ext cx="229320" cy="1295640"/>
            </a:xfrm>
            <a:custGeom>
              <a:avLst/>
              <a:gdLst>
                <a:gd name="textAreaLeft" fmla="*/ 146520 w 229320"/>
                <a:gd name="textAreaRight" fmla="*/ 229680 w 2293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366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2771640" y="2900520"/>
            <a:ext cx="60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楷体_GB2312"/>
              </a:rPr>
              <a:t>如果受某些确定性因素影响，现象的变量会沿着某一方向持续变化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166760" y="1397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变量的种类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349200" y="4156200"/>
            <a:ext cx="2135520" cy="1434960"/>
            <a:chOff x="349200" y="4156200"/>
            <a:chExt cx="2135520" cy="1434960"/>
          </a:xfrm>
        </p:grpSpPr>
        <p:sp>
          <p:nvSpPr>
            <p:cNvPr id="370" name="Rectangle 8">
              <a:hlinkClick r:id="rId1" action="ppaction://hlinksldjump"/>
            </p:cNvPr>
            <p:cNvSpPr/>
            <p:nvPr/>
          </p:nvSpPr>
          <p:spPr>
            <a:xfrm>
              <a:off x="1237320" y="4156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连续型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71" name="Rectangle 9">
              <a:hlinkClick r:id="rId2" action="ppaction://hlinksldjump"/>
            </p:cNvPr>
            <p:cNvSpPr/>
            <p:nvPr/>
          </p:nvSpPr>
          <p:spPr>
            <a:xfrm>
              <a:off x="1218240" y="5070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离散型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72" name="AutoShape 10"/>
            <p:cNvSpPr/>
            <p:nvPr/>
          </p:nvSpPr>
          <p:spPr>
            <a:xfrm>
              <a:off x="349200" y="4172040"/>
              <a:ext cx="229320" cy="1295640"/>
            </a:xfrm>
            <a:custGeom>
              <a:avLst/>
              <a:gdLst>
                <a:gd name="textAreaLeft" fmla="*/ 146520 w 229320"/>
                <a:gd name="textAreaRight" fmla="*/ 229680 w 2293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grpSp>
        <p:nvGrpSpPr>
          <p:cNvPr id="373" name="Group 11"/>
          <p:cNvGrpSpPr/>
          <p:nvPr/>
        </p:nvGrpSpPr>
        <p:grpSpPr>
          <a:xfrm>
            <a:off x="3348000" y="2205000"/>
            <a:ext cx="5329080" cy="3288960"/>
            <a:chOff x="3348000" y="2205000"/>
            <a:chExt cx="5329080" cy="3288960"/>
          </a:xfrm>
        </p:grpSpPr>
        <p:sp>
          <p:nvSpPr>
            <p:cNvPr id="374" name="Text Box 12"/>
            <p:cNvSpPr/>
            <p:nvPr/>
          </p:nvSpPr>
          <p:spPr>
            <a:xfrm>
              <a:off x="3348000" y="2205000"/>
              <a:ext cx="53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如何描述（规模、集中趋势等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75" name="Text Box 13"/>
            <p:cNvSpPr/>
            <p:nvPr/>
          </p:nvSpPr>
          <p:spPr>
            <a:xfrm>
              <a:off x="3348000" y="3142440"/>
              <a:ext cx="48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如何推断（估计、检验等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3348000" y="3967560"/>
              <a:ext cx="516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度量取得、重叠组限、连续分布、概率密度函数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77" name="Text Box 15"/>
            <p:cNvSpPr/>
            <p:nvPr/>
          </p:nvSpPr>
          <p:spPr>
            <a:xfrm>
              <a:off x="3348000" y="4973400"/>
              <a:ext cx="516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计数取得、间断或连续组限、离散分布（二项分布、泊松分布等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378" name="Rectangle 16"/>
          <p:cNvSpPr/>
          <p:nvPr/>
        </p:nvSpPr>
        <p:spPr>
          <a:xfrm>
            <a:off x="4784040" y="13971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区分变量的意义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379" name="Group 7"/>
          <p:cNvGrpSpPr/>
          <p:nvPr/>
        </p:nvGrpSpPr>
        <p:grpSpPr>
          <a:xfrm>
            <a:off x="423720" y="2205000"/>
            <a:ext cx="2080800" cy="1434960"/>
            <a:chOff x="423720" y="2205000"/>
            <a:chExt cx="2080800" cy="1434960"/>
          </a:xfrm>
        </p:grpSpPr>
        <p:sp>
          <p:nvSpPr>
            <p:cNvPr id="380" name="Rectangle 8">
              <a:hlinkClick r:id="rId3" action="ppaction://hlinksldjump"/>
            </p:cNvPr>
            <p:cNvSpPr/>
            <p:nvPr/>
          </p:nvSpPr>
          <p:spPr>
            <a:xfrm>
              <a:off x="1257120" y="2205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确定性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81" name="Rectangle 9">
              <a:hlinkClick r:id="rId4" action="ppaction://hlinksldjump"/>
            </p:cNvPr>
            <p:cNvSpPr/>
            <p:nvPr/>
          </p:nvSpPr>
          <p:spPr>
            <a:xfrm>
              <a:off x="1221120" y="31194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随机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82" name="AutoShape 10"/>
            <p:cNvSpPr/>
            <p:nvPr/>
          </p:nvSpPr>
          <p:spPr>
            <a:xfrm>
              <a:off x="423720" y="2220840"/>
              <a:ext cx="229320" cy="1295640"/>
            </a:xfrm>
            <a:custGeom>
              <a:avLst/>
              <a:gdLst>
                <a:gd name="textAreaLeft" fmla="*/ 146520 w 229320"/>
                <a:gd name="textAreaRight" fmla="*/ 229680 w 2293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383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468360" y="1268280"/>
            <a:ext cx="8207280" cy="2274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测量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仪器确定空间、时间、温度、速度、功能等的有关数值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统计测量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运用某种方法（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分类或标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使自然或社会经济现象量化，测量结果即形成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变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统计测量的种类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936720" y="4005360"/>
            <a:ext cx="4572000" cy="2226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Lucida Sans Unicode"/>
              </a:rPr>
              <a:t>定类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5000"/>
              </a:lnSpc>
              <a:buClr>
                <a:srgbClr val="0000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Lucida Sans Unicode"/>
              </a:rPr>
              <a:t>定序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5000"/>
              </a:lnSpc>
              <a:buClr>
                <a:srgbClr val="0000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Lucida Sans Unicode"/>
              </a:rPr>
              <a:t>定距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5000"/>
              </a:lnSpc>
              <a:buClr>
                <a:srgbClr val="0000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Lucida Sans Unicode"/>
              </a:rPr>
              <a:t>定比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6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3"/>
          <p:cNvSpPr/>
          <p:nvPr/>
        </p:nvSpPr>
        <p:spPr>
          <a:xfrm>
            <a:off x="250920" y="1792440"/>
            <a:ext cx="8893080" cy="2338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3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现象性质差异进行的辨别与区分，测量结果形成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类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类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3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类变量或指标确切的值是以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文字表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，可以用数值标识，但仅起标签作用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3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类变量或指标的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各类别间是平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没有高低、大小、优劣之分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3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能进行是非判断，不能直接进行大小比较、加减乘除运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971640" y="572148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性别、种族、运动项目等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288000" y="57038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268200" y="1125360"/>
            <a:ext cx="61740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Lucida Sans Unicode"/>
              </a:rPr>
              <a:t>定类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1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3"/>
          <p:cNvSpPr/>
          <p:nvPr/>
        </p:nvSpPr>
        <p:spPr>
          <a:xfrm>
            <a:off x="425520" y="1612800"/>
            <a:ext cx="8394480" cy="2746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现象顺序差异进行的辨别与区分，测量结果形成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序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序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序尺度的观测值既可以反映个体之间类别上的不同，也能够反映不同类别之间顺序上的差异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序变量或指标确切的值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以文字表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也可以用数值标识，但仅起标签作用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序变量或指标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各类别间有高低优劣之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不能随意排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仅可以进行是非判断，还可以进行大小比较，但不能进行加减乘除运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95280" y="981000"/>
            <a:ext cx="18414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Lucida Sans Unicode"/>
              </a:rPr>
              <a:t>定序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1835280" y="59961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用一、二、三等品表示的产品等级变量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1155960" y="5996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如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6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的起源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2" name="文本框 2"/>
          <p:cNvSpPr/>
          <p:nvPr/>
        </p:nvSpPr>
        <p:spPr>
          <a:xfrm>
            <a:off x="395280" y="1197000"/>
            <a:ext cx="8353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初步形成数量和分组的概念     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尚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记载，奴隶社会的夏、禹时期，即公元前两千多年前，在国家的天文观测、居民生活条件调查、贡赋制度、劳役制度中，已有选择“四极”调查点、划分年季月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、地理区划“九州”、“九山九水”治理方案、“上中下三等九级”的贡赋标准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国外的历史中，如古埃及、希腊和罗马的历史中，在有关国情国力的调查中，也已经有了人口数量和居民财产的统计工作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63" name="图片 3" descr=""/>
          <p:cNvPicPr/>
          <p:nvPr/>
        </p:nvPicPr>
        <p:blipFill>
          <a:blip r:embed="rId1"/>
          <a:stretch/>
        </p:blipFill>
        <p:spPr>
          <a:xfrm>
            <a:off x="4716360" y="4797360"/>
            <a:ext cx="388944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468360" y="1557360"/>
            <a:ext cx="8496360" cy="318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现象绝对数量差异进行的辨别与区分，测量结果形成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距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距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距尺度观测结果既能提供变量的分类信息和排序信息，也能提供变量分类和排序结果之间的距离信息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距变量或指标的值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以数字表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有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计量单位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距变量或指标各类别间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数值有大小之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但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没有绝对的零点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以进行是非判断、比较大小以及加减运算，但不能进行乘除运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395280" y="1052640"/>
            <a:ext cx="21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Lucida Sans Unicode"/>
              </a:rPr>
              <a:t>定距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2124000" y="595008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温度、年纪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128160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如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1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AutoShape 9"/>
          <p:cNvSpPr/>
          <p:nvPr/>
        </p:nvSpPr>
        <p:spPr>
          <a:xfrm>
            <a:off x="609480" y="3191040"/>
            <a:ext cx="8001000" cy="1728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天气预报：沈阳：最高温度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3℃</a:t>
            </a: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，最低－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7℃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大连：最高温度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6℃</a:t>
            </a: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，最低－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2℃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1873080" y="4687920"/>
            <a:ext cx="5867640" cy="16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两地最高温度相差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3℃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沈阳最低温度较大连最低温度低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5℃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大连最高温度是沈阳最高温度的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倍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1366200" y="4648320"/>
            <a:ext cx="474840" cy="52056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1366200" y="5300640"/>
            <a:ext cx="474840" cy="52056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1295280" y="5862600"/>
            <a:ext cx="381240" cy="520560"/>
          </a:xfrm>
          <a:prstGeom prst="rect">
            <a:avLst/>
          </a:prstGeom>
          <a:noFill/>
          <a:ln w="0">
            <a:noFill/>
          </a:ln>
          <a:effectLst>
            <a:outerShdw dist="28496" dir="12374481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ebdings"/>
                <a:ea typeface="Webdings"/>
              </a:rPr>
              <a:t>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407" name="Group 17"/>
          <p:cNvGrpSpPr/>
          <p:nvPr/>
        </p:nvGrpSpPr>
        <p:grpSpPr>
          <a:xfrm>
            <a:off x="1433520" y="219240"/>
            <a:ext cx="4129200" cy="2819160"/>
            <a:chOff x="1433520" y="219240"/>
            <a:chExt cx="4129200" cy="2819160"/>
          </a:xfrm>
        </p:grpSpPr>
        <p:sp>
          <p:nvSpPr>
            <p:cNvPr id="408" name="AutoShape 8"/>
            <p:cNvSpPr/>
            <p:nvPr/>
          </p:nvSpPr>
          <p:spPr>
            <a:xfrm>
              <a:off x="1433520" y="1133640"/>
              <a:ext cx="1193760" cy="5205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718" y="0"/>
                  </a:lnTo>
                  <a:lnTo>
                    <a:pt x="21600" y="10800"/>
                  </a:lnTo>
                  <a:lnTo>
                    <a:pt x="1671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  <a:effectLst>
              <a:outerShdw dist="153753" dir="2700000" blurRad="0" rotWithShape="0">
                <a:srgbClr val="f8f8f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Lucida Sans Unicode"/>
                  <a:ea typeface="楷体_GB2312"/>
                </a:rPr>
                <a:t>温度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graphicFrame>
          <p:nvGraphicFramePr>
            <p:cNvPr id="409" name="Object 16"/>
            <p:cNvGraphicFramePr/>
            <p:nvPr/>
          </p:nvGraphicFramePr>
          <p:xfrm>
            <a:off x="3048120" y="219240"/>
            <a:ext cx="2514600" cy="281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219240"/>
                      <a:ext cx="2514600" cy="2819160"/>
                    </a:xfrm>
                    <a:prstGeom prst="rect">
                      <a:avLst/>
                    </a:prstGeom>
                    <a:ln w="9360">
                      <a:solidFill>
                        <a:srgbClr val="006666"/>
                      </a:solidFill>
                      <a:miter/>
                    </a:ln>
                    <a:effectLst>
                      <a:outerShdw dist="85328" dir="12393904" blurRad="0" rotWithShape="0">
                        <a:srgbClr val="f8f8f8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3"/>
          <p:cNvSpPr/>
          <p:nvPr/>
        </p:nvSpPr>
        <p:spPr>
          <a:xfrm>
            <a:off x="539640" y="2146320"/>
            <a:ext cx="8280360" cy="1791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20000"/>
              </a:lnSpc>
              <a:spcBef>
                <a:spcPts val="1500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现象绝对差异与相对差异进行的辨别与区分，测量结果形成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比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比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1500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比变量或指标确切的值也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以数字表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有计量单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可以进行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加减运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1500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比变量或指标有绝对意义上的零点，既可以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加减运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也可以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乘除运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468360" y="141300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Lucida Sans Unicode"/>
              </a:rPr>
              <a:t>定比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1908000" y="5516640"/>
            <a:ext cx="61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灯泡的使用寿命，人的年龄、身高、体重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1281600" y="5502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如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5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2"/>
          <p:cNvSpPr/>
          <p:nvPr/>
        </p:nvSpPr>
        <p:spPr>
          <a:xfrm>
            <a:off x="2195640" y="1478520"/>
            <a:ext cx="464004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对测量尺度层次的判断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066680" y="2622600"/>
            <a:ext cx="6629400" cy="2437920"/>
            <a:chOff x="1066680" y="2622600"/>
            <a:chExt cx="6629400" cy="2437920"/>
          </a:xfrm>
        </p:grpSpPr>
        <p:sp>
          <p:nvSpPr>
            <p:cNvPr id="418" name="Rectangle 3"/>
            <p:cNvSpPr/>
            <p:nvPr/>
          </p:nvSpPr>
          <p:spPr>
            <a:xfrm>
              <a:off x="1066680" y="2622600"/>
              <a:ext cx="1067040" cy="243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Lucida Sans Unicode"/>
                </a:rPr>
                <a:t>较低层次的测量尺度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6629400" y="2622600"/>
              <a:ext cx="1066680" cy="243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Lucida Sans Unicode"/>
                </a:rPr>
                <a:t>较高层次的测量尺度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pic>
        <p:nvPicPr>
          <p:cNvPr id="420" name="Group 16" descr=""/>
          <p:cNvPicPr/>
          <p:nvPr/>
        </p:nvPicPr>
        <p:blipFill>
          <a:blip r:embed="rId1"/>
          <a:stretch/>
        </p:blipFill>
        <p:spPr>
          <a:xfrm>
            <a:off x="2809800" y="2212920"/>
            <a:ext cx="3225960" cy="3468600"/>
          </a:xfrm>
          <a:prstGeom prst="rect">
            <a:avLst/>
          </a:prstGeom>
          <a:ln w="0">
            <a:noFill/>
          </a:ln>
        </p:spPr>
      </p:pic>
      <p:sp>
        <p:nvSpPr>
          <p:cNvPr id="421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22" name="TextBox 10"/>
          <p:cNvSpPr/>
          <p:nvPr/>
        </p:nvSpPr>
        <p:spPr>
          <a:xfrm>
            <a:off x="2235240" y="587700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Lucida Sans Unicode"/>
                <a:ea typeface="宋体"/>
              </a:rPr>
              <a:t>定类            定序            定距           定比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423" name="直接箭头连接符 12"/>
          <p:cNvCxnSpPr/>
          <p:nvPr/>
        </p:nvCxnSpPr>
        <p:spPr>
          <a:xfrm>
            <a:off x="2160360" y="6092640"/>
            <a:ext cx="104364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424" name="直接箭头连接符 13"/>
          <p:cNvCxnSpPr/>
          <p:nvPr/>
        </p:nvCxnSpPr>
        <p:spPr>
          <a:xfrm>
            <a:off x="3960360" y="6092640"/>
            <a:ext cx="104364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425" name="直接箭头连接符 14"/>
          <p:cNvCxnSpPr/>
          <p:nvPr/>
        </p:nvCxnSpPr>
        <p:spPr>
          <a:xfrm>
            <a:off x="5688000" y="6092640"/>
            <a:ext cx="104544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Group 13" descr=""/>
          <p:cNvPicPr/>
          <p:nvPr/>
        </p:nvPicPr>
        <p:blipFill>
          <a:blip r:embed="rId1"/>
          <a:stretch/>
        </p:blipFill>
        <p:spPr>
          <a:xfrm>
            <a:off x="42840" y="1695600"/>
            <a:ext cx="9107640" cy="1309680"/>
          </a:xfrm>
          <a:prstGeom prst="rect">
            <a:avLst/>
          </a:prstGeom>
          <a:ln w="0">
            <a:noFill/>
          </a:ln>
        </p:spPr>
      </p:pic>
      <p:pic>
        <p:nvPicPr>
          <p:cNvPr id="427" name="Group 19" descr=""/>
          <p:cNvPicPr/>
          <p:nvPr/>
        </p:nvPicPr>
        <p:blipFill>
          <a:blip r:embed="rId2"/>
          <a:stretch/>
        </p:blipFill>
        <p:spPr>
          <a:xfrm>
            <a:off x="42840" y="2840040"/>
            <a:ext cx="9107640" cy="1268280"/>
          </a:xfrm>
          <a:prstGeom prst="rect">
            <a:avLst/>
          </a:prstGeom>
          <a:ln w="0">
            <a:noFill/>
          </a:ln>
        </p:spPr>
      </p:pic>
      <p:pic>
        <p:nvPicPr>
          <p:cNvPr id="428" name="Group 25" descr=""/>
          <p:cNvPicPr/>
          <p:nvPr/>
        </p:nvPicPr>
        <p:blipFill>
          <a:blip r:embed="rId3"/>
          <a:stretch/>
        </p:blipFill>
        <p:spPr>
          <a:xfrm>
            <a:off x="42840" y="4133880"/>
            <a:ext cx="9107640" cy="1309680"/>
          </a:xfrm>
          <a:prstGeom prst="rect">
            <a:avLst/>
          </a:prstGeom>
          <a:ln w="0">
            <a:noFill/>
          </a:ln>
        </p:spPr>
      </p:pic>
      <p:pic>
        <p:nvPicPr>
          <p:cNvPr id="429" name="Group 31" descr=""/>
          <p:cNvPicPr/>
          <p:nvPr/>
        </p:nvPicPr>
        <p:blipFill>
          <a:blip r:embed="rId4"/>
          <a:stretch/>
        </p:blipFill>
        <p:spPr>
          <a:xfrm>
            <a:off x="42840" y="5353200"/>
            <a:ext cx="9107640" cy="1249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9"/>
          <p:cNvSpPr/>
          <p:nvPr/>
        </p:nvSpPr>
        <p:spPr>
          <a:xfrm>
            <a:off x="3895560" y="219240"/>
            <a:ext cx="1828800" cy="1218960"/>
          </a:xfrm>
          <a:prstGeom prst="downArrow">
            <a:avLst>
              <a:gd name="adj1" fmla="val 51907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测量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精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1" name="AutoShape 40"/>
          <p:cNvSpPr/>
          <p:nvPr/>
        </p:nvSpPr>
        <p:spPr>
          <a:xfrm>
            <a:off x="5715000" y="219240"/>
            <a:ext cx="182880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计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2" name="AutoShape 41"/>
          <p:cNvSpPr/>
          <p:nvPr/>
        </p:nvSpPr>
        <p:spPr>
          <a:xfrm>
            <a:off x="7543800" y="189000"/>
            <a:ext cx="160020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信息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数量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3" name="Oval 42"/>
          <p:cNvSpPr/>
          <p:nvPr/>
        </p:nvSpPr>
        <p:spPr>
          <a:xfrm>
            <a:off x="1882800" y="295200"/>
            <a:ext cx="17524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Lucida Sans Unicode"/>
              </a:rPr>
              <a:t>某甲、某乙的生命现象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971640" y="1916280"/>
          <a:ext cx="7200720" cy="4047840"/>
        </p:xfrm>
        <a:graphic>
          <a:graphicData uri="http://schemas.openxmlformats.org/drawingml/2006/table">
            <a:tbl>
              <a:tblPr/>
              <a:tblGrid>
                <a:gridCol w="2143080"/>
                <a:gridCol w="2394000"/>
                <a:gridCol w="266364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测量尺度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PSS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定义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定义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定类变量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定序变量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in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定距变量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e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定比变量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e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30"/>
          <p:cNvSpPr/>
          <p:nvPr/>
        </p:nvSpPr>
        <p:spPr>
          <a:xfrm>
            <a:off x="826920" y="1109520"/>
            <a:ext cx="79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常用统计分析软件中关于变量类型的定义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1187280" y="21398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PS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操作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2340000" y="3316320"/>
            <a:ext cx="4176720" cy="13395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7"/>
          <p:cNvSpPr/>
          <p:nvPr/>
        </p:nvSpPr>
        <p:spPr>
          <a:xfrm>
            <a:off x="662040" y="1773360"/>
            <a:ext cx="66466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数值、文本、日期或时间的输入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动填充数据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968400" y="1197000"/>
            <a:ext cx="12474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Lucida Sans Unicode"/>
              </a:rPr>
              <a:t>数据的输入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1185840" y="2757600"/>
            <a:ext cx="3457440" cy="1032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使用自动填充柄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使用填充命令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755640" y="4508640"/>
            <a:ext cx="2700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公式的引入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函数的输入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926640" y="3989520"/>
            <a:ext cx="2640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xcel201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函数基础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1258920" y="5492880"/>
            <a:ext cx="4572000" cy="1032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手动输入函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使用函数库输入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4"/>
          <p:cNvSpPr/>
          <p:nvPr/>
        </p:nvSpPr>
        <p:spPr>
          <a:xfrm>
            <a:off x="468360" y="23511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公式的引入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6" name="左大括号 6"/>
          <p:cNvSpPr/>
          <p:nvPr/>
        </p:nvSpPr>
        <p:spPr>
          <a:xfrm>
            <a:off x="4788000" y="2502000"/>
            <a:ext cx="252360" cy="1846080"/>
          </a:xfrm>
          <a:custGeom>
            <a:avLst/>
            <a:gdLst>
              <a:gd name="textAreaLeft" fmla="*/ 161280 w 252360"/>
              <a:gd name="textAreaRight" fmla="*/ 252720 w 252360"/>
              <a:gd name="textAreaTop" fmla="*/ 2520 h 1846080"/>
              <a:gd name="textAreaBottom" fmla="*/ 1843560 h 184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"/>
                  <a:pt x="10800" y="105"/>
                </a:cubicBezTo>
                <a:lnTo>
                  <a:pt x="10800" y="10704"/>
                </a:lnTo>
                <a:cubicBezTo>
                  <a:pt x="10800" y="10757"/>
                  <a:pt x="5400" y="10809"/>
                  <a:pt x="0" y="10809"/>
                </a:cubicBezTo>
                <a:cubicBezTo>
                  <a:pt x="5400" y="10809"/>
                  <a:pt x="10800" y="10862"/>
                  <a:pt x="10800" y="10914"/>
                </a:cubicBezTo>
                <a:lnTo>
                  <a:pt x="10800" y="21495"/>
                </a:lnTo>
                <a:cubicBezTo>
                  <a:pt x="10800" y="215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7" name="TextBox 7"/>
          <p:cNvSpPr/>
          <p:nvPr/>
        </p:nvSpPr>
        <p:spPr>
          <a:xfrm>
            <a:off x="5075280" y="2168640"/>
            <a:ext cx="79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5075280" y="2744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单元格引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9" name="TextBox 10"/>
          <p:cNvSpPr/>
          <p:nvPr/>
        </p:nvSpPr>
        <p:spPr>
          <a:xfrm>
            <a:off x="5062680" y="317664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单元格区域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0" name="TextBox 11"/>
          <p:cNvSpPr/>
          <p:nvPr/>
        </p:nvSpPr>
        <p:spPr>
          <a:xfrm>
            <a:off x="5076720" y="3608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区域名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5076720" y="4040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函数名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2" name="TextBox 13"/>
          <p:cNvSpPr/>
          <p:nvPr/>
        </p:nvSpPr>
        <p:spPr>
          <a:xfrm>
            <a:off x="395280" y="4941720"/>
            <a:ext cx="842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其间以一个或多个运算符连接，这些运算符包括</a:t>
            </a: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宋体"/>
              </a:rPr>
              <a:t>算术运算符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宋体"/>
              </a:rPr>
              <a:t>逻辑运算符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宋体"/>
              </a:rPr>
              <a:t>字符运算符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等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3" name="Rectangle 18"/>
          <p:cNvSpPr/>
          <p:nvPr/>
        </p:nvSpPr>
        <p:spPr>
          <a:xfrm>
            <a:off x="536400" y="1558800"/>
            <a:ext cx="2640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xcel201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函数基础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1763640" y="31291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运算码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5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395280" y="1062000"/>
          <a:ext cx="8424720" cy="5324400"/>
        </p:xfrm>
        <a:graphic>
          <a:graphicData uri="http://schemas.openxmlformats.org/drawingml/2006/table">
            <a:tbl>
              <a:tblPr/>
              <a:tblGrid>
                <a:gridCol w="1224000"/>
                <a:gridCol w="936720"/>
                <a:gridCol w="2808000"/>
                <a:gridCol w="3456000"/>
              </a:tblGrid>
              <a:tr h="366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名称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类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含义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示例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算术运算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2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幂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^2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百分比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较运算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于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B2/C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 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&lt;C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 &lt;= C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 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等于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 &lt;&gt; C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文本运算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多个文本连接起来产生连续的文本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年”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快乐”，将产生“新年快乐”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引用运算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合运算符，将多个引用合并为一个引用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br>
                        <a:rPr sz="2400"/>
                      </a:b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引用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两个区域）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TextBox 3"/>
          <p:cNvSpPr/>
          <p:nvPr/>
        </p:nvSpPr>
        <p:spPr>
          <a:xfrm>
            <a:off x="252360" y="40464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Excel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中部分运算符含义及作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的起源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5" name="文本框 2"/>
          <p:cNvSpPr/>
          <p:nvPr/>
        </p:nvSpPr>
        <p:spPr>
          <a:xfrm>
            <a:off x="395280" y="1341360"/>
            <a:ext cx="8353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广泛应用和迅速发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统计广泛应用和迅速发展是在资本主义社会。随着经济文化的发展，社会分工日益发达，人们对客观世界认识的程度也随之提高，对社会现象的描述，对信息的搜集和利用的需求更为强烈。统计方法的运用已经扩展到工业、农业、商业、贸易、交通等社会各个领域，并且逐渐形成了各专业的经济统计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612720" y="6206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Excel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公式中的运算符优先级顺序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755640" y="1268280"/>
          <a:ext cx="7632720" cy="4694400"/>
        </p:xfrm>
        <a:graphic>
          <a:graphicData uri="http://schemas.openxmlformats.org/drawingml/2006/table">
            <a:tbl>
              <a:tblPr/>
              <a:tblGrid>
                <a:gridCol w="2543040"/>
                <a:gridCol w="2544840"/>
                <a:gridCol w="2544840"/>
              </a:tblGrid>
              <a:tr h="427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名称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优先级顺序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区域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空格）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交叉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合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求反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百分数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幂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乘和除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和减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连接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&gt;&lt;&gt;=  &lt;=  &lt;&gt;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较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7"/>
          <p:cNvSpPr/>
          <p:nvPr/>
        </p:nvSpPr>
        <p:spPr>
          <a:xfrm>
            <a:off x="468360" y="2124000"/>
            <a:ext cx="830268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载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选择“文件”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选项”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Excel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选项”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加载项”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分析工具库”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转到”，再选中“分析工具库”复选框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确定”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选择“数据”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→“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分析”，选择某种分析工具后，即可打开该分析工具对话框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882360" y="1484280"/>
            <a:ext cx="14608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数据分析工具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2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3"/>
          <p:cNvSpPr/>
          <p:nvPr/>
        </p:nvSpPr>
        <p:spPr>
          <a:xfrm>
            <a:off x="982440" y="1614600"/>
            <a:ext cx="1835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建立数据文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4" name="TextBox 4"/>
          <p:cNvSpPr/>
          <p:nvPr/>
        </p:nvSpPr>
        <p:spPr>
          <a:xfrm>
            <a:off x="776160" y="2349360"/>
            <a:ext cx="804384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524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输入数据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524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打开其它格式的数据文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包括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SPSS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.sav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.sys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.syd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.por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）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Excel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Lotus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Text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524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数据库查询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524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入文本文件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5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3"/>
          <p:cNvSpPr/>
          <p:nvPr/>
        </p:nvSpPr>
        <p:spPr>
          <a:xfrm>
            <a:off x="676080" y="1268280"/>
            <a:ext cx="21117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定义数据的属性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1208160" y="2344680"/>
            <a:ext cx="48038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变量名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Name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变量类型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Variable Type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变量宽度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Width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小数点后位数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Decimals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变量标签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Label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值标签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Value Labels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缺失值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Missing Values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列宽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Column Width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对齐格式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Align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测度方式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Measure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8" name="TextBox 3"/>
          <p:cNvSpPr/>
          <p:nvPr/>
        </p:nvSpPr>
        <p:spPr>
          <a:xfrm>
            <a:off x="466560" y="18194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数据编辑窗口中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 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变量视图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3"/>
          <p:cNvSpPr/>
          <p:nvPr/>
        </p:nvSpPr>
        <p:spPr>
          <a:xfrm>
            <a:off x="550440" y="1197000"/>
            <a:ext cx="1835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保存数据文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1" name="TextBox 3"/>
          <p:cNvSpPr/>
          <p:nvPr/>
        </p:nvSpPr>
        <p:spPr>
          <a:xfrm>
            <a:off x="324000" y="1792440"/>
            <a:ext cx="864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新文件： 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弹出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 Data 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，在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 as 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表框中，选择对应的数据类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文件名文本框内输入新文件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保存已保存过的数据：选择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另存为：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 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弹出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 Data 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中，输入新文件名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2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636120" y="4365720"/>
            <a:ext cx="1835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导出数据文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4" name="TextBox 3"/>
          <p:cNvSpPr/>
          <p:nvPr/>
        </p:nvSpPr>
        <p:spPr>
          <a:xfrm>
            <a:off x="324000" y="4869000"/>
            <a:ext cx="849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“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→“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Export to Datab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弹出“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Export to Database Wiz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，选中所需的数据库类型，根据向导的提示即可将数据导出到指定的数据库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1619280" y="1503360"/>
            <a:ext cx="5832360" cy="4373640"/>
          </a:xfrm>
          <a:prstGeom prst="rect">
            <a:avLst/>
          </a:prstGeom>
          <a:ln w="0">
            <a:noFill/>
          </a:ln>
        </p:spPr>
      </p:pic>
      <p:sp>
        <p:nvSpPr>
          <p:cNvPr id="476" name="WordArt 3"/>
          <p:cNvSpPr txBox="1"/>
          <p:nvPr/>
        </p:nvSpPr>
        <p:spPr>
          <a:xfrm>
            <a:off x="3851280" y="3284640"/>
            <a:ext cx="136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</a:rPr>
              <a:t>thank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宋体"/>
              <a:ea typeface="宋体"/>
            </a:endParaRPr>
          </a:p>
        </p:txBody>
      </p:sp>
      <p:sp>
        <p:nvSpPr>
          <p:cNvPr id="477" name="WordArt 3"/>
          <p:cNvSpPr txBox="1"/>
          <p:nvPr/>
        </p:nvSpPr>
        <p:spPr>
          <a:xfrm>
            <a:off x="3059280" y="515772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</a:rPr>
              <a:t>the end of chapter 1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宋体"/>
              <a:ea typeface="宋体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的起源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7" name="文本框 2"/>
          <p:cNvSpPr/>
          <p:nvPr/>
        </p:nvSpPr>
        <p:spPr>
          <a:xfrm>
            <a:off x="395280" y="1341360"/>
            <a:ext cx="8353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统计学的创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世纪末，随着统计实践的快速发展，客观上要求统计理论进一步系统和丰富，并进而知道统计实践活动，统计学作为一门独立的学科自此创立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欧洲各国也出现了一些统计理论的相关著作。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istic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源自拉丁语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以为“国家、状态”，原指一个国家所搜集的国情资料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最早使用“统计学”一词的是德国教授阿亨瓦尔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Achenw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19-177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他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出版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近代欧洲各国国势学概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书中，首次使用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统计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，并替代了“国势学”，一直沿用至今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学派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9" name="文本框 2"/>
          <p:cNvSpPr/>
          <p:nvPr/>
        </p:nvSpPr>
        <p:spPr>
          <a:xfrm>
            <a:off x="3132000" y="1773360"/>
            <a:ext cx="40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国势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政治算术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数理统计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社会统计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学派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1" name="文本框 2"/>
          <p:cNvSpPr/>
          <p:nvPr/>
        </p:nvSpPr>
        <p:spPr>
          <a:xfrm>
            <a:off x="826920" y="1413000"/>
            <a:ext cx="75614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势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势学派”也称“记述学派”，创始人是德国的赫尔曼∙康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Con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6-168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势学派主要采用文字记述的形式，记述各个国家的重大事件和国家领土、人口、财政、军事、政治和法律等方面的内容。“国势学派”研究的主要目的是向国家统治者提供一些有关各国国情的知识，缺少数字的手段，因而与今天的统计学相比而言，可谓名不副实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学派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3" name="文本框 2"/>
          <p:cNvSpPr/>
          <p:nvPr/>
        </p:nvSpPr>
        <p:spPr>
          <a:xfrm>
            <a:off x="395280" y="1011240"/>
            <a:ext cx="8461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治算术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治算术学派”的创始人是英国的威廉∙配第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Pett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3-1687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他的代表作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治算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政治算术学派也因此得名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治算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书运用了大量的统计资料，对英、法、荷三国的人口、土地、资本、军事等情况进行了比较和分析，首创了研究政治经济问题的数量对比分析方法，即用数字、重量和尺度来表达，并配以朴素的图表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治算术选派的另一个代表人物是约翰∙格朗特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Graunt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0-167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。格朗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6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发表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关于死亡表的自然与政治的观察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文，运用数量对比的方法分类、计算和分析了英国伦敦人口的出生率和死亡率等重要的指标，发现了其中的数量规律性，并编制了世界上第一张“死亡率”统计表，因而政治算术派可谓现代统计学的真正开端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2:27:36Z</dcterms:created>
  <dc:creator>twt</dc:creator>
  <dc:description/>
  <dc:language>en-US</dc:language>
  <cp:lastModifiedBy>ThinkPad</cp:lastModifiedBy>
  <dcterms:modified xsi:type="dcterms:W3CDTF">2020-09-04T03:49:53Z</dcterms:modified>
  <cp:revision>631</cp:revision>
  <dc:subject/>
  <dc:title>请输入标题</dc:title>
</cp:coreProperties>
</file>